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6C35-CFF3-4B43-9186-6327A5D2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BF6B-3B4D-4FBF-91FB-D12FE898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C755-8D96-4DE0-B8E1-B45D5048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C63E-A08B-4401-9CCB-15079584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B459-1DB7-402B-89E2-1E9D67DE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8B13-2865-4065-ABE9-210B8C68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B034-B4C4-4764-935E-DE1AA15F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C805-6D26-484D-9A9C-B2A4DBA2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D522-4E5D-4062-8391-2E8818D8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E7B3-A1F3-407F-97C1-0F8D9774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318E-521A-443E-B3AF-E9FAC348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D1F3-E3D1-4659-92C4-BD87DACE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D151-8CE3-498E-8F59-F114B3F3B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chese del Gri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e: Onof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gnome: Del G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olo: Marc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pazione: Ness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544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chese del Gri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itazione:” Quanno se scherza, bisogna esse ser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94200" y="1600200"/>
            <a:ext cx="3544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07:32:35Z</dcterms:created>
  <dc:creator>Biblioteca di Latino</dc:creator>
  <dc:description/>
  <dc:language>en-US</dc:language>
  <cp:lastModifiedBy>Biblioteca di Latino</cp:lastModifiedBy>
  <dcterms:modified xsi:type="dcterms:W3CDTF">2008-07-16T07:57:03Z</dcterms:modified>
  <cp:revision>3</cp:revision>
  <dc:subject/>
  <dc:title>Marchese del grillo</dc:title>
</cp:coreProperties>
</file>