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7AE-F3AB-42E9-84A2-6C9A48F6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E2A-E24C-469D-B141-CC2899F2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FE9-BA49-42C2-8379-16BAD7BD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19B-084F-4A88-9989-33BB3224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50E-8540-49FD-B667-B2E4507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929-E3E9-4027-960B-60DD657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BE0-BA73-4D29-B046-990307C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28E-F8F1-4813-9CD7-084514B8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8A3-1903-473D-8895-B8AF8C66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91C-4C2A-4DB4-8AA9-EEFD22B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C58-E78F-4426-89CC-ACA2143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822-73B8-44B4-A794-029302A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AC60-4C97-4F9C-8037-7DCB4F67F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b1f1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: Onof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ome:  Del G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olo: Marc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zione: ness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b1f1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zione: “Quando se scherza bisogna esse seri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7:47:31Z</dcterms:created>
  <dc:creator>Aglaia</dc:creator>
  <dc:description/>
  <dc:language>en-US</dc:language>
  <cp:lastModifiedBy>Aglaia</cp:lastModifiedBy>
  <dcterms:modified xsi:type="dcterms:W3CDTF">2008-07-16T09:14:45Z</dcterms:modified>
  <cp:revision>4</cp:revision>
  <dc:subject/>
  <dc:title>Diapositiva 1</dc:title>
</cp:coreProperties>
</file>